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9399-B9ED-4F68-9D1A-CA963545CA29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3C83-5AFD-4296-8C0D-CD27F7FBD9F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BE0F-451B-409E-8615-6D76E029DA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038E2-8468-4FF5-A5CC-E0716C1E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B23E-F382-4983-954F-721CC469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F879-DC11-439E-8C9D-F809F15504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798DD-D39A-4C2F-8541-7E350F2A3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95A81-73BE-460C-92AF-3496648E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85FC4-D091-4653-8ECE-C07548A6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C4088-3654-4548-907F-471A5553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756D1-81E4-4846-ACD3-A3C1036F3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F76E8-23DB-474E-A354-DB630ECF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255BC-541B-46BB-81E8-5ACB4697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3CF3C-E361-42B2-BD96-50C06E6D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DE2F7-7637-4324-BF9C-A911A4F8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E7C11-5F15-4C77-B8EE-039ED083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210D5-5597-4D6C-8E16-5D7C78FD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8D9655-A38D-4012-BAAA-43508A47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E653D-0FD4-4BEB-A44B-D6A97312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9F10E-1DE2-4C3D-BD94-DA81D9BC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60CE2-9027-4A41-B86D-703B045D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E3CC-2C4D-4710-B9AA-5FE9EB83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80E5A-2506-4921-AB1A-C46149B32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FEC2-656F-4428-BF9D-140B71B5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EF3A7-6EE0-4348-B0E7-161982DD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D1B89-DB97-4DB8-9E7B-06A89000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846A-4610-4509-A397-71B8E81B70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0BCA-DB81-45ED-B562-2FB42418852B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7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89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90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3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94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95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6" name="Rectangle 12"/>
              <p:cNvSpPr/>
              <p:nvPr/>
            </p:nvSpPr>
            <p:spPr>
              <a:xfrm>
                <a:off x="28440" y="50392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98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01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xuncai.com/toolbar/pic2_to/imagedown.asp?imageUrl=http://www.dabaoku.com/sucai/yiliao/kangfu/014an.jpg&amp;publisher=xuncai010@dabaoku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646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第七章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管理沟通与冲突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707840"/>
            <a:ext cx="8893080" cy="64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按沟通的方向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垂直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团体或组织在管理结构各层次之间进行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包括上行和下行两个方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平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结构中同一层次人员或部门之间的信息传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斜向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13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不属于同一组织层次单位和人员之间进行的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1162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235692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按沟通的渠道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正式的组织程序和组织所规定的正式渠道进行的沟通，是沟通的主要形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宋体"/>
                <a:hlinkClick r:id="rId1" action="ppaction://hlinksldjump"/>
              </a:rPr>
              <a:t>五种典型的沟通网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在正式沟通渠道之外进行的信息传递或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11"/>
          <p:cNvGrpSpPr/>
          <p:nvPr/>
        </p:nvGrpSpPr>
        <p:grpSpPr>
          <a:xfrm>
            <a:off x="754200" y="1701720"/>
            <a:ext cx="575640" cy="3671640"/>
            <a:chOff x="754200" y="1701720"/>
            <a:chExt cx="575640" cy="3671640"/>
          </a:xfrm>
        </p:grpSpPr>
        <p:sp>
          <p:nvSpPr>
            <p:cNvPr id="190" name="AutoShape 4"/>
            <p:cNvSpPr/>
            <p:nvPr/>
          </p:nvSpPr>
          <p:spPr>
            <a:xfrm>
              <a:off x="754200" y="170172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1" name="AutoShape 5"/>
            <p:cNvCxnSpPr/>
            <p:nvPr/>
          </p:nvCxnSpPr>
          <p:spPr>
            <a:xfrm>
              <a:off x="1037160" y="222624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92" name="AutoShape 6"/>
            <p:cNvSpPr/>
            <p:nvPr/>
          </p:nvSpPr>
          <p:spPr>
            <a:xfrm>
              <a:off x="763560" y="275076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AutoShape 7"/>
            <p:cNvSpPr/>
            <p:nvPr/>
          </p:nvSpPr>
          <p:spPr>
            <a:xfrm>
              <a:off x="754200" y="3800880"/>
              <a:ext cx="566280" cy="523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AutoShape 8"/>
            <p:cNvSpPr/>
            <p:nvPr/>
          </p:nvSpPr>
          <p:spPr>
            <a:xfrm>
              <a:off x="754200" y="4849560"/>
              <a:ext cx="566280" cy="523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95" name="AutoShape 9"/>
            <p:cNvCxnSpPr/>
            <p:nvPr/>
          </p:nvCxnSpPr>
          <p:spPr>
            <a:xfrm>
              <a:off x="1037160" y="3274200"/>
              <a:ext cx="216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96" name="AutoShape 10"/>
            <p:cNvCxnSpPr/>
            <p:nvPr/>
          </p:nvCxnSpPr>
          <p:spPr>
            <a:xfrm>
              <a:off x="1035360" y="4324320"/>
              <a:ext cx="1800" cy="524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97" name="Text Box 12"/>
          <p:cNvSpPr/>
          <p:nvPr/>
        </p:nvSpPr>
        <p:spPr>
          <a:xfrm>
            <a:off x="395280" y="5732640"/>
            <a:ext cx="14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链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98" name="Group 24"/>
          <p:cNvGrpSpPr/>
          <p:nvPr/>
        </p:nvGrpSpPr>
        <p:grpSpPr>
          <a:xfrm>
            <a:off x="2482920" y="2205000"/>
            <a:ext cx="1728360" cy="2736360"/>
            <a:chOff x="2482920" y="2205000"/>
            <a:chExt cx="1728360" cy="2736360"/>
          </a:xfrm>
        </p:grpSpPr>
        <p:cxnSp>
          <p:nvCxnSpPr>
            <p:cNvPr id="199" name="AutoShape 13"/>
            <p:cNvCxnSpPr/>
            <p:nvPr/>
          </p:nvCxnSpPr>
          <p:spPr>
            <a:xfrm flipH="1">
              <a:off x="285264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00" name="AutoShape 14"/>
            <p:cNvSpPr/>
            <p:nvPr/>
          </p:nvSpPr>
          <p:spPr>
            <a:xfrm>
              <a:off x="3099960" y="3362040"/>
              <a:ext cx="43128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377964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2543760" y="441576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2482920" y="22572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3594240" y="2205000"/>
              <a:ext cx="431640" cy="5256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05" name="AutoShape 19"/>
            <p:cNvCxnSpPr/>
            <p:nvPr/>
          </p:nvCxnSpPr>
          <p:spPr>
            <a:xfrm>
              <a:off x="2792880" y="2835720"/>
              <a:ext cx="369720" cy="47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6" name="AutoShape 20"/>
            <p:cNvCxnSpPr/>
            <p:nvPr/>
          </p:nvCxnSpPr>
          <p:spPr>
            <a:xfrm>
              <a:off x="3471480" y="3889080"/>
              <a:ext cx="329040" cy="52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07" name="AutoShape 21"/>
            <p:cNvCxnSpPr/>
            <p:nvPr/>
          </p:nvCxnSpPr>
          <p:spPr>
            <a:xfrm flipH="1">
              <a:off x="3471120" y="2782800"/>
              <a:ext cx="329040" cy="52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08" name="Text Box 23"/>
          <p:cNvSpPr/>
          <p:nvPr/>
        </p:nvSpPr>
        <p:spPr>
          <a:xfrm>
            <a:off x="2554200" y="566100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轮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9" name="Group 34"/>
          <p:cNvGrpSpPr/>
          <p:nvPr/>
        </p:nvGrpSpPr>
        <p:grpSpPr>
          <a:xfrm>
            <a:off x="5003640" y="1917720"/>
            <a:ext cx="1223640" cy="3742920"/>
            <a:chOff x="5003640" y="1917720"/>
            <a:chExt cx="1223640" cy="3742920"/>
          </a:xfrm>
        </p:grpSpPr>
        <p:sp>
          <p:nvSpPr>
            <p:cNvPr id="210" name="AutoShape 25"/>
            <p:cNvSpPr/>
            <p:nvPr/>
          </p:nvSpPr>
          <p:spPr>
            <a:xfrm>
              <a:off x="50036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1" name="AutoShape 26"/>
            <p:cNvSpPr/>
            <p:nvPr/>
          </p:nvSpPr>
          <p:spPr>
            <a:xfrm>
              <a:off x="5783040" y="19177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2" name="AutoShape 27"/>
            <p:cNvSpPr/>
            <p:nvPr/>
          </p:nvSpPr>
          <p:spPr>
            <a:xfrm>
              <a:off x="5393880" y="294840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3" name="AutoShape 28"/>
            <p:cNvSpPr/>
            <p:nvPr/>
          </p:nvSpPr>
          <p:spPr>
            <a:xfrm>
              <a:off x="5393880" y="4034520"/>
              <a:ext cx="444240" cy="5414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4" name="AutoShape 29"/>
            <p:cNvSpPr/>
            <p:nvPr/>
          </p:nvSpPr>
          <p:spPr>
            <a:xfrm>
              <a:off x="5393880" y="5118840"/>
              <a:ext cx="444240" cy="54180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15" name="AutoShape 30"/>
            <p:cNvCxnSpPr/>
            <p:nvPr/>
          </p:nvCxnSpPr>
          <p:spPr>
            <a:xfrm>
              <a:off x="5614560" y="457740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6" name="AutoShape 31"/>
            <p:cNvCxnSpPr/>
            <p:nvPr/>
          </p:nvCxnSpPr>
          <p:spPr>
            <a:xfrm>
              <a:off x="5614560" y="3491280"/>
              <a:ext cx="108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7" name="AutoShape 32"/>
            <p:cNvCxnSpPr/>
            <p:nvPr/>
          </p:nvCxnSpPr>
          <p:spPr>
            <a:xfrm flipH="1">
              <a:off x="5726520" y="2460600"/>
              <a:ext cx="19080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18" name="AutoShape 33"/>
            <p:cNvCxnSpPr/>
            <p:nvPr/>
          </p:nvCxnSpPr>
          <p:spPr>
            <a:xfrm>
              <a:off x="5280480" y="2460600"/>
              <a:ext cx="189720" cy="54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19" name="Text Box 35"/>
          <p:cNvSpPr/>
          <p:nvPr/>
        </p:nvSpPr>
        <p:spPr>
          <a:xfrm>
            <a:off x="7034040" y="344664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环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7"/>
          <p:cNvGrpSpPr/>
          <p:nvPr/>
        </p:nvGrpSpPr>
        <p:grpSpPr>
          <a:xfrm>
            <a:off x="6875640" y="1560600"/>
            <a:ext cx="1799640" cy="1944720"/>
            <a:chOff x="6875640" y="1560600"/>
            <a:chExt cx="1799640" cy="1944720"/>
          </a:xfrm>
        </p:grpSpPr>
        <p:sp>
          <p:nvSpPr>
            <p:cNvPr id="221" name="AutoShape 36"/>
            <p:cNvSpPr/>
            <p:nvPr/>
          </p:nvSpPr>
          <p:spPr>
            <a:xfrm>
              <a:off x="6875640" y="22471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37"/>
            <p:cNvSpPr/>
            <p:nvPr/>
          </p:nvSpPr>
          <p:spPr>
            <a:xfrm>
              <a:off x="7068240" y="30477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AutoShape 38"/>
            <p:cNvSpPr/>
            <p:nvPr/>
          </p:nvSpPr>
          <p:spPr>
            <a:xfrm>
              <a:off x="8154000" y="304632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AutoShape 39"/>
            <p:cNvSpPr/>
            <p:nvPr/>
          </p:nvSpPr>
          <p:spPr>
            <a:xfrm>
              <a:off x="8282880" y="218916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5" name="AutoShape 40"/>
            <p:cNvSpPr/>
            <p:nvPr/>
          </p:nvSpPr>
          <p:spPr>
            <a:xfrm>
              <a:off x="7517520" y="1560600"/>
              <a:ext cx="392400" cy="45756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226" name="AutoShape 41"/>
            <p:cNvCxnSpPr/>
            <p:nvPr/>
          </p:nvCxnSpPr>
          <p:spPr>
            <a:xfrm flipH="1">
              <a:off x="7067520" y="1846080"/>
              <a:ext cx="38628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7" name="AutoShape 42"/>
            <p:cNvCxnSpPr/>
            <p:nvPr/>
          </p:nvCxnSpPr>
          <p:spPr>
            <a:xfrm>
              <a:off x="7068240" y="2703240"/>
              <a:ext cx="128160" cy="401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8" name="AutoShape 43"/>
            <p:cNvCxnSpPr/>
            <p:nvPr/>
          </p:nvCxnSpPr>
          <p:spPr>
            <a:xfrm>
              <a:off x="7968240" y="1846080"/>
              <a:ext cx="45000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29" name="AutoShape 44"/>
            <p:cNvCxnSpPr/>
            <p:nvPr/>
          </p:nvCxnSpPr>
          <p:spPr>
            <a:xfrm flipH="1">
              <a:off x="8388360" y="2646360"/>
              <a:ext cx="93960" cy="399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0" name="Line 46"/>
            <p:cNvSpPr/>
            <p:nvPr/>
          </p:nvSpPr>
          <p:spPr>
            <a:xfrm>
              <a:off x="7453800" y="3389040"/>
              <a:ext cx="70668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1" name="Text Box 48"/>
          <p:cNvSpPr/>
          <p:nvPr/>
        </p:nvSpPr>
        <p:spPr>
          <a:xfrm>
            <a:off x="4786200" y="5748480"/>
            <a:ext cx="14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Arial"/>
                <a:ea typeface="黑体"/>
              </a:rPr>
              <a:t>Y</a:t>
            </a: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2" name="Group 74"/>
          <p:cNvGrpSpPr/>
          <p:nvPr/>
        </p:nvGrpSpPr>
        <p:grpSpPr>
          <a:xfrm>
            <a:off x="7020000" y="3989520"/>
            <a:ext cx="1726920" cy="2015640"/>
            <a:chOff x="7020000" y="3989520"/>
            <a:chExt cx="1726920" cy="2015640"/>
          </a:xfrm>
        </p:grpSpPr>
        <p:sp>
          <p:nvSpPr>
            <p:cNvPr id="233" name="AutoShape 50"/>
            <p:cNvSpPr/>
            <p:nvPr/>
          </p:nvSpPr>
          <p:spPr>
            <a:xfrm>
              <a:off x="7020000" y="452016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51"/>
            <p:cNvSpPr/>
            <p:nvPr/>
          </p:nvSpPr>
          <p:spPr>
            <a:xfrm>
              <a:off x="708840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52"/>
            <p:cNvSpPr/>
            <p:nvPr/>
          </p:nvSpPr>
          <p:spPr>
            <a:xfrm>
              <a:off x="8348040" y="5420520"/>
              <a:ext cx="39888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53"/>
            <p:cNvSpPr/>
            <p:nvPr/>
          </p:nvSpPr>
          <p:spPr>
            <a:xfrm>
              <a:off x="8331120" y="451008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AutoShape 54"/>
            <p:cNvSpPr/>
            <p:nvPr/>
          </p:nvSpPr>
          <p:spPr>
            <a:xfrm>
              <a:off x="7709760" y="3989520"/>
              <a:ext cx="399240" cy="58464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Line 64"/>
            <p:cNvSpPr/>
            <p:nvPr/>
          </p:nvSpPr>
          <p:spPr>
            <a:xfrm>
              <a:off x="7502760" y="5745960"/>
              <a:ext cx="82836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Line 65"/>
            <p:cNvSpPr/>
            <p:nvPr/>
          </p:nvSpPr>
          <p:spPr>
            <a:xfrm>
              <a:off x="722664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Line 66"/>
            <p:cNvSpPr/>
            <p:nvPr/>
          </p:nvSpPr>
          <p:spPr>
            <a:xfrm>
              <a:off x="8538480" y="5095080"/>
              <a:ext cx="0" cy="325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1" name="Line 67"/>
            <p:cNvSpPr/>
            <p:nvPr/>
          </p:nvSpPr>
          <p:spPr>
            <a:xfrm flipH="1">
              <a:off x="7363800" y="4314960"/>
              <a:ext cx="27720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Line 68"/>
            <p:cNvSpPr/>
            <p:nvPr/>
          </p:nvSpPr>
          <p:spPr>
            <a:xfrm>
              <a:off x="8124120" y="4314960"/>
              <a:ext cx="276840" cy="2592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3" name="Line 69"/>
            <p:cNvSpPr/>
            <p:nvPr/>
          </p:nvSpPr>
          <p:spPr>
            <a:xfrm>
              <a:off x="7434000" y="4835520"/>
              <a:ext cx="897120" cy="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4" name="Line 70"/>
            <p:cNvSpPr/>
            <p:nvPr/>
          </p:nvSpPr>
          <p:spPr>
            <a:xfrm flipH="1">
              <a:off x="7502400" y="4835520"/>
              <a:ext cx="82836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Line 71"/>
            <p:cNvSpPr/>
            <p:nvPr/>
          </p:nvSpPr>
          <p:spPr>
            <a:xfrm>
              <a:off x="7434000" y="4835520"/>
              <a:ext cx="897120" cy="910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Line 72"/>
            <p:cNvSpPr/>
            <p:nvPr/>
          </p:nvSpPr>
          <p:spPr>
            <a:xfrm flipH="1">
              <a:off x="7502760" y="4574160"/>
              <a:ext cx="414000" cy="117144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Line 73"/>
            <p:cNvSpPr/>
            <p:nvPr/>
          </p:nvSpPr>
          <p:spPr>
            <a:xfrm>
              <a:off x="7917120" y="4574160"/>
              <a:ext cx="414000" cy="1107000"/>
            </a:xfrm>
            <a:prstGeom prst="line">
              <a:avLst/>
            </a:prstGeom>
            <a:ln w="9360">
              <a:solidFill>
                <a:srgbClr val="11111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48" name="Text Box 75"/>
          <p:cNvSpPr/>
          <p:nvPr/>
        </p:nvSpPr>
        <p:spPr>
          <a:xfrm>
            <a:off x="6875640" y="607860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黑体"/>
              </a:rPr>
              <a:t>全通道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4000" y="860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正式沟通五种典型的沟通网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89064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沟通的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24000" y="1857240"/>
          <a:ext cx="8569080" cy="4529160"/>
        </p:xfrm>
        <a:graphic>
          <a:graphicData uri="http://schemas.openxmlformats.org/drawingml/2006/table">
            <a:tbl>
              <a:tblPr/>
              <a:tblGrid>
                <a:gridCol w="2016000"/>
                <a:gridCol w="3116160"/>
                <a:gridCol w="3436920"/>
              </a:tblGrid>
              <a:tr h="4874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沟通类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优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缺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效果好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权威性高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约束力强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渠道长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速度慢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层次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过滤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正式沟通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形式灵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沟通速度快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补充正式沟通不足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信息容易失真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促进小集团形成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142200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管理沟通的影响因素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2358720"/>
            <a:ext cx="785016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语言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过滤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选择性知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信息传递不适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渠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情绪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9920" indent="-53496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他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六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42880" y="226512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沟通准备充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目的明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对方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传递清晰准确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126360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4160" y="2314080"/>
            <a:ext cx="824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选择恰当的沟通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确使用语言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非语言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沟通渠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118908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4240" y="2071440"/>
            <a:ext cx="7056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积极倾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基本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专注、移情、接收、对完整性负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了解谈话内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背景       用表情表达兴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注意语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肢体语言      勿急于发表看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适当提问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复述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澄清    谈话结束后讨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控制情绪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避免激动      安排充分交谈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46ca6"/>
                </a:solidFill>
                <a:latin typeface="Arial"/>
                <a:ea typeface="宋体"/>
              </a:rPr>
              <a:t>（四）运用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85716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五、护理管理活动中的沟通方法与技巧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42880" y="1907640"/>
            <a:ext cx="82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个别谈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类型及作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类型：指示性、汇报性、讨论性、请示</a:t>
            </a:r>
            <a:r>
              <a:rPr b="1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lnSpc>
                <a:spcPct val="8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作用：监督、参与、悉人、指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46ca6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话的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激发下级谈话愿望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抓住谈话重要问题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表达对谈话的兴趣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处理谈话中的停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掌握谈话评论分寸     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343160" indent="-433440"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选择适当的谈话时机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83016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第二节   冲  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2125440"/>
            <a:ext cx="831672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冲突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  <a:ea typeface="宋体"/>
              </a:rPr>
              <a:t>(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27120" indent="-45252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群体内部个体与个体之间、个体与群体之间存在的互不相容、互相排斥的一种矛盾表现形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4" name="Picture 7" descr="http://pic7.nipic.com/20100527/3179695_091758715368_2.jpg"/>
          <p:cNvPicPr/>
          <p:nvPr/>
        </p:nvPicPr>
        <p:blipFill>
          <a:blip r:embed="rId1"/>
          <a:srcRect l="0" t="0" r="0" b="3900"/>
          <a:stretch/>
        </p:blipFill>
        <p:spPr>
          <a:xfrm>
            <a:off x="4932360" y="3925800"/>
            <a:ext cx="3610080" cy="26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539640" y="1785960"/>
            <a:ext cx="78580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识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陈述管理沟通、冲突的相关概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列举管理沟通的原则、类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概括冲突的分类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理解管理沟通的目的和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解释管理沟通的影响沟通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阐述冲突的基本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运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有效运用管理沟通的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3517d"/>
                </a:solidFill>
                <a:latin typeface="楷体_GB2312"/>
                <a:ea typeface="楷体_GB2312"/>
              </a:rPr>
              <a:t>．在护理实践中运用冲突处理策略有效的处理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2050920" y="9936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Arial"/>
                <a:ea typeface="宋体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71280" y="1071720"/>
            <a:ext cx="91440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Verdana"/>
                <a:ea typeface="宋体"/>
              </a:rPr>
              <a:t>一、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1911240"/>
            <a:ext cx="828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支持组织或小组实现工作目标，对组织或小组工作绩效具有积极建设意义的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非建设性冲突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non-constructive conflict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800" indent="-457200">
              <a:lnSpc>
                <a:spcPct val="13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由于认识不一致，组织资源和利益分配不均，导致员工之间发生相互抵触、争执甚至攻击等行为，造成组织效率下降，最终影响组织发展的冲突，又称破坏性冲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71280" y="1764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ddb523"/>
                </a:solidFill>
                <a:latin typeface="Verdana"/>
                <a:ea typeface="宋体"/>
              </a:rPr>
              <a:t>冲突的分类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50920" y="1317600"/>
          <a:ext cx="8713800" cy="5040360"/>
        </p:xfrm>
        <a:graphic>
          <a:graphicData uri="http://schemas.openxmlformats.org/drawingml/2006/table">
            <a:tbl>
              <a:tblPr/>
              <a:tblGrid>
                <a:gridCol w="1296720"/>
                <a:gridCol w="3888000"/>
                <a:gridCol w="3529080"/>
              </a:tblGrid>
              <a:tr h="70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分  类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特  点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ff0000"/>
                          </a:solidFill>
                          <a:latin typeface="Verdana"/>
                          <a:ea typeface="经典特宋简"/>
                        </a:rPr>
                        <a:t>作  用</a:t>
                      </a:r>
                      <a:endParaRPr b="0" lang="en-US" sz="2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0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建设性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有共同目标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有解决问题意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是为了寻求解决问题的方法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冲突以问题为中心展开争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冲突双方均愿意了解对方的观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过程中的信息交流不断增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发现组织问题，寻找解决措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促进公平竞争，提高组织效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防止思想僵化，提高决策质量激发创造力，适应外界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2246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非建设性冲突</a:t>
                      </a:r>
                      <a:endParaRPr b="0" lang="en-US" sz="2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争论不再围绕解决问题展开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关注自己观点是否取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相互人身攻击现象时常发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双方均不愿听取对方的意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意见交换不断减少甚至停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成员心理紧张、焦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导致人与人之间相互排斥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造成组织内部的士气涣散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Verdana"/>
                          <a:ea typeface="经典特宋简"/>
                        </a:rPr>
                        <a:t>削弱组织战斗力，影响绩效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10364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二、冲突的基本过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914200" y="2143080"/>
            <a:ext cx="58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潜伏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认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感觉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结局阶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808200" indent="-3366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79992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604520" y="190944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回避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voidanc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漠不关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妥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romise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互相让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顺应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accommod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弱化差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mpel 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用权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作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(collaboration)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寻求双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8460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冲突处理策略及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357200" y="2214360"/>
            <a:ext cx="8501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处理冲突的策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谈判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分配谈判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综合谈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82800" indent="-447840"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谈判要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态度积极主动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针对问题，避免攻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保持灵活应变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：寻求双赢的解决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3" marL="1166760" indent="-358560">
              <a:spcBef>
                <a:spcPts val="601"/>
              </a:spcBef>
              <a:buClr>
                <a:srgbClr val="046ca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营造开放气氛：必要时寻求第三方协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14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  <a:ea typeface="宋体"/>
              </a:rPr>
              <a:t>促进法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9950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714680" y="1974960"/>
            <a:ext cx="84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护士与护士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医护队伍中层次结构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工作压力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利益冲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34960" indent="-36036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认识冲突存在客观性和两面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同理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信任原则处理冲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890640" indent="-44280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确认问题的原因或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714320" y="2071800"/>
            <a:ext cx="8715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患者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患者方面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护士方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法制和服务意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规范护士的服务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加护理人员的配置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585720">
              <a:lnSpc>
                <a:spcPct val="12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加强业务和技能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护理管理中的冲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071720" y="2214720"/>
            <a:ext cx="885816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士与其他医务人员之间的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形成的原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工作性质不同、期望值不同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情绪因素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医护人员的沟通不良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冲突管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254240" indent="-34452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建立医护有效沟通、共同合作，营造团队氛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0920" y="103500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94920" y="20718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0920" y="920880"/>
            <a:ext cx="89298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8000" y="1988640"/>
            <a:ext cx="8534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沟通重要吗？为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才能做到有效沟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如何正确看待护理管理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47840" indent="-4478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在护理管理中，如何正确区分冲突的性质，如何恰当解决实际工作中的冲突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920" y="2138400"/>
            <a:ext cx="4680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一个人的成功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2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靠智慧、专业水平和经验，</a:t>
            </a:r>
            <a:r>
              <a:rPr b="1" lang="en-US" sz="2800" spc="-1" strike="noStrike">
                <a:solidFill>
                  <a:srgbClr val="03517d"/>
                </a:solidFill>
                <a:latin typeface="隶书"/>
                <a:ea typeface="隶书"/>
              </a:rPr>
              <a:t>75%</a:t>
            </a: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取决于沟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隶书"/>
                <a:ea typeface="隶书"/>
              </a:rPr>
              <a:t>      </a:t>
            </a:r>
            <a:r>
              <a:rPr b="1" lang="en-US" sz="2600" spc="-1" strike="noStrike">
                <a:solidFill>
                  <a:srgbClr val="03517d"/>
                </a:solidFill>
                <a:latin typeface="Arial"/>
                <a:ea typeface="隶书"/>
              </a:rPr>
              <a:t>——</a:t>
            </a:r>
            <a:r>
              <a:rPr b="1" lang="en-US" sz="2600" spc="-1" strike="noStrike">
                <a:solidFill>
                  <a:srgbClr val="03517d"/>
                </a:solidFill>
                <a:latin typeface="隶书"/>
                <a:ea typeface="隶书"/>
              </a:rPr>
              <a:t> </a:t>
            </a:r>
            <a:r>
              <a:rPr b="1" lang="zh-CN" sz="2600" spc="-1" strike="noStrike">
                <a:solidFill>
                  <a:srgbClr val="03517d"/>
                </a:solidFill>
                <a:latin typeface="隶书"/>
                <a:ea typeface="隶书"/>
              </a:rPr>
              <a:t>美国普林斯顿大学调查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3" descr="康复护理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700280"/>
            <a:ext cx="3500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027"/>
          <p:cNvSpPr/>
          <p:nvPr/>
        </p:nvSpPr>
        <p:spPr>
          <a:xfrm>
            <a:off x="684360" y="692280"/>
            <a:ext cx="770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宋体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6" name="WordArt 13" descr=""/>
          <p:cNvPicPr/>
          <p:nvPr/>
        </p:nvPicPr>
        <p:blipFill>
          <a:blip r:embed="rId1"/>
          <a:stretch/>
        </p:blipFill>
        <p:spPr>
          <a:xfrm>
            <a:off x="2494080" y="2371680"/>
            <a:ext cx="4430520" cy="19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09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3517d"/>
                </a:solidFill>
                <a:latin typeface="黑体"/>
                <a:ea typeface="黑体"/>
              </a:rPr>
              <a:t>第一节  管理沟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889280"/>
            <a:ext cx="8424720" cy="50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一、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管理沟通</a:t>
            </a:r>
            <a:r>
              <a:rPr b="1" lang="en-US" sz="2800" spc="-1" strike="noStrike">
                <a:solidFill>
                  <a:srgbClr val="03517d"/>
                </a:solidFill>
                <a:latin typeface="黑体"/>
                <a:ea typeface="黑体"/>
              </a:rPr>
              <a:t>(management communication)</a:t>
            </a:r>
            <a:r>
              <a:rPr b="1" lang="zh-CN" sz="2800" spc="-1" strike="noStrike">
                <a:solidFill>
                  <a:srgbClr val="03517d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人与人之间的信息传递与交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管理活动中沟通双方通过沟通渠道进行的相互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3517d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Picture 6" descr="BD07160_"/>
          <p:cNvPicPr/>
          <p:nvPr/>
        </p:nvPicPr>
        <p:blipFill>
          <a:blip r:embed="rId1"/>
          <a:stretch/>
        </p:blipFill>
        <p:spPr>
          <a:xfrm>
            <a:off x="5148360" y="3976560"/>
            <a:ext cx="3047760" cy="27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0"/>
          <p:cNvGrpSpPr/>
          <p:nvPr/>
        </p:nvGrpSpPr>
        <p:grpSpPr>
          <a:xfrm>
            <a:off x="468360" y="4508640"/>
            <a:ext cx="8136000" cy="835920"/>
            <a:chOff x="468360" y="4508640"/>
            <a:chExt cx="8136000" cy="835920"/>
          </a:xfrm>
        </p:grpSpPr>
        <p:sp>
          <p:nvSpPr>
            <p:cNvPr id="161" name="TextBox 3"/>
            <p:cNvSpPr/>
            <p:nvPr/>
          </p:nvSpPr>
          <p:spPr>
            <a:xfrm>
              <a:off x="468360" y="4884840"/>
              <a:ext cx="114300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源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Box 4"/>
            <p:cNvSpPr/>
            <p:nvPr/>
          </p:nvSpPr>
          <p:spPr>
            <a:xfrm>
              <a:off x="282420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信息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Box 5"/>
            <p:cNvSpPr/>
            <p:nvPr/>
          </p:nvSpPr>
          <p:spPr>
            <a:xfrm>
              <a:off x="5035680" y="4884840"/>
              <a:ext cx="12128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接受者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4" name="TextBox 6"/>
            <p:cNvSpPr/>
            <p:nvPr/>
          </p:nvSpPr>
          <p:spPr>
            <a:xfrm>
              <a:off x="7605720" y="4884840"/>
              <a:ext cx="998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11111"/>
                  </a:solidFill>
                  <a:latin typeface="Calibri"/>
                  <a:ea typeface="黑体"/>
                </a:rPr>
                <a:t>反馈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TextBox 7"/>
            <p:cNvSpPr/>
            <p:nvPr/>
          </p:nvSpPr>
          <p:spPr>
            <a:xfrm>
              <a:off x="1612800" y="450864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编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TextBox 8"/>
            <p:cNvSpPr/>
            <p:nvPr/>
          </p:nvSpPr>
          <p:spPr>
            <a:xfrm>
              <a:off x="6321600" y="4508640"/>
              <a:ext cx="128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信息解码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TextBox 9"/>
            <p:cNvSpPr/>
            <p:nvPr/>
          </p:nvSpPr>
          <p:spPr>
            <a:xfrm>
              <a:off x="3822840" y="450864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Calibri"/>
                  <a:ea typeface="黑体"/>
                </a:rPr>
                <a:t>沟通渠道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68" name="直接箭头连接符 15"/>
            <p:cNvCxnSpPr/>
            <p:nvPr/>
          </p:nvCxnSpPr>
          <p:spPr>
            <a:xfrm>
              <a:off x="1682280" y="5121000"/>
              <a:ext cx="107244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69" name="直接箭头连接符 16"/>
            <p:cNvCxnSpPr/>
            <p:nvPr/>
          </p:nvCxnSpPr>
          <p:spPr>
            <a:xfrm>
              <a:off x="6392520" y="5121000"/>
              <a:ext cx="1142280" cy="10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  <p:cxnSp>
          <p:nvCxnSpPr>
            <p:cNvPr id="170" name="直接箭头连接符 28"/>
            <p:cNvCxnSpPr/>
            <p:nvPr/>
          </p:nvCxnSpPr>
          <p:spPr>
            <a:xfrm>
              <a:off x="3822480" y="5121000"/>
              <a:ext cx="1213560" cy="31680"/>
            </a:xfrm>
            <a:prstGeom prst="straightConnector1">
              <a:avLst/>
            </a:prstGeom>
            <a:ln w="19080">
              <a:solidFill>
                <a:srgbClr val="99669b"/>
              </a:solidFill>
              <a:miter/>
              <a:tailEnd len="med" type="arrow" w="med"/>
            </a:ln>
          </p:spPr>
        </p:cxnSp>
      </p:grpSp>
      <p:cxnSp>
        <p:nvCxnSpPr>
          <p:cNvPr id="171" name="肘形连接符 31"/>
          <p:cNvCxnSpPr/>
          <p:nvPr/>
        </p:nvCxnSpPr>
        <p:spPr>
          <a:xfrm rot="5400000">
            <a:off x="4573800" y="1769040"/>
            <a:ext cx="3960" cy="7066800"/>
          </a:xfrm>
          <a:prstGeom prst="bentConnector3">
            <a:avLst>
              <a:gd name="adj1" fmla="val 14400000"/>
            </a:avLst>
          </a:prstGeom>
          <a:ln w="19080">
            <a:solidFill>
              <a:srgbClr val="99669b"/>
            </a:solidFill>
            <a:miter/>
            <a:tailEnd len="med" type="arrow" w="med"/>
          </a:ln>
        </p:spPr>
      </p:cxnSp>
      <p:sp>
        <p:nvSpPr>
          <p:cNvPr id="172" name="Rectangle 17"/>
          <p:cNvSpPr/>
          <p:nvPr/>
        </p:nvSpPr>
        <p:spPr>
          <a:xfrm>
            <a:off x="179280" y="1700280"/>
            <a:ext cx="828036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管理沟通是一个过程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要素：信息源、信息编码、沟通渠道、信息 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解码、接受者、反馈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  <a:p>
            <a:pPr lvl="1" marL="622440" indent="-349560">
              <a:lnSpc>
                <a:spcPct val="100000"/>
              </a:lnSpc>
              <a:spcBef>
                <a:spcPts val="751"/>
              </a:spcBef>
              <a:buClr>
                <a:srgbClr val="fe23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3517d"/>
                </a:solidFill>
                <a:latin typeface="Verdana"/>
                <a:ea typeface="宋体"/>
              </a:rPr>
              <a:t>关键环节：信息编码、沟通渠道、信息解码</a:t>
            </a:r>
            <a:endParaRPr b="0" lang="en-US" sz="3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23480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二、管理沟通的目的和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95280" y="2603160"/>
            <a:ext cx="856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收集资料、指导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变行为、建立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改善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传递信息，影响知觉、思想、态度，改变行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表达情感，满足心理需求，确定与对方人际关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109368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三、管理沟通原则</a:t>
            </a:r>
            <a:r>
              <a:rPr b="0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000" y="2317680"/>
            <a:ext cx="8675640" cy="52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信息明确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信息沟通的语言和传递方式能被接受者所理解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组织结构完整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lvl="1" marL="719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组织内的沟通应按组织结构的完整性进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及时性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非正式沟通策略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631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en-US" sz="2600" spc="-1" strike="noStrike">
                <a:solidFill>
                  <a:srgbClr val="046ca6"/>
                </a:solidFill>
                <a:latin typeface="Verdana"/>
                <a:ea typeface="宋体"/>
              </a:rPr>
              <a:t>.</a:t>
            </a:r>
            <a:r>
              <a:rPr b="1" lang="zh-CN" sz="2600" spc="-1" strike="noStrike">
                <a:solidFill>
                  <a:srgbClr val="046ca6"/>
                </a:solidFill>
                <a:latin typeface="Verdana"/>
                <a:ea typeface="宋体"/>
              </a:rPr>
              <a:t>重视交谈与倾听技巧的原则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10792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563400" y="1967040"/>
            <a:ext cx="6096240" cy="4495680"/>
          </a:xfrm>
          <a:prstGeom prst="rightArrow">
            <a:avLst>
              <a:gd name="adj1" fmla="val 79306"/>
              <a:gd name="adj2" fmla="val 33587"/>
            </a:avLst>
          </a:prstGeom>
          <a:solidFill>
            <a:srgbClr val="8ac8d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533520" y="2552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媒介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533520" y="3695760"/>
            <a:ext cx="4038480" cy="990720"/>
          </a:xfrm>
          <a:prstGeom prst="roundRect">
            <a:avLst>
              <a:gd name="adj" fmla="val 9106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方向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AutoShape 6"/>
          <p:cNvSpPr/>
          <p:nvPr/>
        </p:nvSpPr>
        <p:spPr>
          <a:xfrm>
            <a:off x="539640" y="4848120"/>
            <a:ext cx="4038840" cy="990720"/>
          </a:xfrm>
          <a:prstGeom prst="roundRect">
            <a:avLst>
              <a:gd name="adj" fmla="val 9106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9b"/>
                </a:solidFill>
                <a:latin typeface="Arial"/>
                <a:ea typeface="宋体"/>
              </a:rPr>
              <a:t>按沟通的渠道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6378480" y="355140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沟通的分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四、管理沟通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2390400"/>
            <a:ext cx="87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按沟通的媒介分类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书面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图表、文字的表达形式进行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口头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正式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正式的面谈、会议、电话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-36972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非语言沟通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过手势、动作、姿势、表情、音调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音量、信号、实物、视听设备等媒介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通信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2T10:01:47Z</dcterms:modified>
  <cp:revision>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